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328-3C5B-4994-A90C-F973577F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237-8161-49AF-8A44-DD877034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B72-64D5-4F65-BFE9-AEF1AD7E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779-623C-4C49-8D0E-4D77880B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817-871A-41CB-A5D9-53296592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9D6-7221-4D5B-ABBB-3B35562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687-B437-459C-AC93-BB271FE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E538-1716-448D-80A6-3F26BEE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8F7D-4A8B-488A-9333-B46E1CDD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C1A4-2C11-4FED-BDA0-259D1ED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1A0D-6744-4794-A6D6-7A8E6E2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35B-E245-4B27-929A-D8DA25AE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BA8A-7982-464C-A3A4-46CC262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A00-723F-4E96-801E-AE80B0C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A74-8D42-46CE-8472-C2DD4F2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E65-8E45-43B3-8D64-5C682DB0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374D-25DD-41F2-AAF0-751A580E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19B-46F4-4F68-94AC-D0D4193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F2A-E7C1-4B17-827B-AFD98E50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4A6-D553-4D3C-BE0B-FA84FD8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6EB-D6E5-4841-9C29-EAC07D6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40E-2C24-4056-A118-E601587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178-CE13-42A2-A309-2B27E46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BB-8875-44EB-AA75-6AF1DBD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43B-6254-47EA-AA5D-715A7F9E66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B4F-DD61-4483-B223-B816D0FAA7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03:22Z</dcterms:created>
  <dc:creator>VMS</dc:creator>
  <dc:description/>
  <dc:language>en-US</dc:language>
  <cp:lastModifiedBy>VMS</cp:lastModifiedBy>
  <dcterms:modified xsi:type="dcterms:W3CDTF">2009-10-07T19:16:11Z</dcterms:modified>
  <cp:revision>3</cp:revision>
  <dc:subject/>
  <dc:title>English</dc:title>
</cp:coreProperties>
</file>